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D4AC2-D28C-4265-9B7D-5F5D6C6C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4437-9738-4231-8F0F-137CDA5E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F667-9385-42C3-B773-C78747CC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972A-78AA-46CB-B35D-A5EBE544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B713-5ACC-46CE-B594-6019D99A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1FA7-90EF-4D9F-A847-601CF4AE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147D-58D4-4BC7-B0A0-034C5282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7873-ABCC-459E-BFEB-53582D0C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9E54-C4B9-491F-BC66-DC1C0F8C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0A40-910B-4D82-B9A8-D141135C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2564-4CBC-4BC7-9A37-2159AB1D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F409-EDB4-4B19-9D40-1CE45542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9325-21C7-4CEC-96D3-0DF52F76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721B-1586-4BCD-9A50-2D14804A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A427-003B-4CDB-A8A7-2F6A9F4B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4A25-6B0D-4660-85BF-FB6A6672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5102-1D7D-403B-8805-A11D8D3A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E888-2C33-4EE4-8E05-2D47CE77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164CF-F6AB-4913-8C98-CB57A265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A1959-BB17-4D14-92BA-78553BD8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ED898-E065-47DF-B591-D006A5DD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2D88-E8D8-4503-96F4-A121813D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806A-6ACF-49ED-8079-9FBB564A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829A8-BCD4-4D98-A652-D8B8CA63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9FE7-1609-410C-A1C9-EBF74EFA4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8274-1286-4F22-9E8D-E0C9D3FC49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00007d"/>
                </a:solidFill>
                <a:uFillTx/>
                <a:latin typeface="Arial"/>
              </a:rPr>
              <a:t>Тема урок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чните работу с нажатия кнопки Пу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95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8800" y="4568760"/>
            <a:ext cx="372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 информатике и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5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80"/>
                </a:solidFill>
                <a:uFillTx/>
                <a:latin typeface="Arial"/>
              </a:rPr>
              <a:t>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улова 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БОУ СОШ № 2031,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Практическая работа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«Запуск стандартных программ из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Главного мен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Запустите программу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бы запустить стандартную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ведите указатель мыши на кнопку Пуск на Панели задач и щелкните левой кноп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мыши к пункту Программы – откроется вложенное меню с перечнем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к пункту Стандартные – появится вновь вложенное меню с перечнем стандартных , часто используем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ужную программу Блокнот, и выберите ее щелчком левой кнопк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ус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анда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D530D-017D-4DFD-90F2-11D30A00D67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. Запустите стандартную программу Калькулято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29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14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129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114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76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. Завершение работы с програм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Кальк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явлении окна сохранения документа, нажмит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18148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F03F-D943-41FB-87D7-3378032DEA8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Итоги урока и Д/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акую тему рассматрив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нового вы 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ему науч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вам больше всего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/З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5 и определения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276720" cy="23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9A31-881C-4E87-9D56-7D6DCC638B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10120" y="3200400"/>
            <a:ext cx="3233880" cy="280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назначением и функциями Главного мен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ить запуск программ через Главное ме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C5FF7-0DFA-4A58-B182-009B45FC97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 урока и д/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3541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8B0E-61EE-47CB-8D36-3DEA143850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619520" cy="3067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бочий ст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Рабочем сто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анели зада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е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ы знаете о кнопке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ус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7B849-81A5-4F67-80F0-F1F004B53D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Изуч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733920" cy="1040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опка Пуск располагается на Панели задач в левом нижнем уг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200400"/>
            <a:ext cx="4495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е действия начинаются с нажатия кнопки Пу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8E9A-20E2-4CE4-BD05-94BBEF4577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46720" y="228600"/>
            <a:ext cx="3797280" cy="5605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Щелкнув по кнопке Пуск открое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9718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657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86200"/>
            <a:ext cx="449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этого меню можно вызвать различные программы. При помощи программ создаются документы: тексты, рисунки,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B7CF-EB57-4DC8-9721-0E35063CFF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3733560" cy="586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496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пункте меню справа расположен значок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 этот пункт является заголовком еще одного 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687240" cy="718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971800" y="2514600"/>
            <a:ext cx="5562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0481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124080"/>
            <a:ext cx="3962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200400"/>
            <a:ext cx="4267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128D1-A4F5-4E8E-A1DC-511FEC6E5E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77320" cy="4408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содержимое появляется при выделении этого пункта. Такие меню называют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влож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крытым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ложен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895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43040" y="175248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34320" y="1752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D7AB-A324-4F4F-A115-F0D742B53D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174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0492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того, кнопка Пуск позволяет грамотно завершить работу на компьютере, выбрав команд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вершение рабо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CC54-612F-4258-9618-E89C992542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</cp:lastModifiedBy>
  <dcterms:modified xsi:type="dcterms:W3CDTF">2012-04-13T07:39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